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9F7A-D582-412A-B906-94DB355A3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AC10-FF9F-412B-B3E9-A83EE1B74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043D-2528-454D-937D-7B89ED02F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6A28-8259-4F52-9A12-74B5D881D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CFE00-00EC-49B1-A355-D6A4A65BE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E054B-85D8-4E0F-814B-631989BD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CDD5F6-35FA-4B45-885F-5184D0D4D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F71D2F-5812-4F47-AFD9-64BD7215D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77481-0713-4844-A994-16E1D139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860E8-932E-4F71-AD7F-85BC842D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BC0282-B219-44C3-86FA-2A511394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C198-6B6A-49BE-BC08-85F01C4E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57F1E-FC04-42E3-8345-C679D87C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4F1F57-F023-4940-AE24-8702304E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82ADEF-EEB8-453A-B699-BEB49B15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6C6A7-C44A-4321-9DC1-F7C89B08B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D8E1E-FBA3-4B43-B192-34E665A64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966D-1A90-469E-80D4-051B1EE1C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FFE5-2BE8-4BD8-848E-A48CECC50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79695-7C36-4D3D-9B3F-C8CE66DE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2AA4-8384-4973-8955-3211CC3F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26CF-8E8D-4B3B-B7E8-411B308C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AC98-AA81-4AAB-80C2-E5F83A88D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235C-D121-4DDC-A6AC-C54A2EAB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8162-1670-4112-9FAC-DE48AA2F4D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3DBC2-6CD7-4AEA-86EF-D65F483B15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182880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rincetown LET"/>
              </a:rPr>
              <a:t>First Wav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47920" y="29718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Princetown LET"/>
              </a:rPr>
              <a:t>By Teddy Harr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Princetown LET"/>
              </a:rPr>
              <a:t>Important Facts of Paragraph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3898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Princetown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rincetown LET"/>
              </a:rPr>
              <a:t>The Maldives, a chain of some 1200 islands in the middle of the Indian Ocean sits about 700 kilometers southwest of Sri Lank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Princetown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Princetown LET"/>
              </a:rPr>
              <a:t>More than half a million adventures each year. They come to scuba dive,surf,fish and cruise in picturesque atolls known for white sandy beaches, crystal-clear turquoise waters and coral reefs teeming with tropical fish of rainbow colors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7:31:28Z</dcterms:created>
  <dc:creator>PA Department of Education</dc:creator>
  <dc:description/>
  <dc:language>en-US</dc:language>
  <cp:lastModifiedBy>PA Department of Education</cp:lastModifiedBy>
  <dcterms:modified xsi:type="dcterms:W3CDTF">2009-05-22T17:40:08Z</dcterms:modified>
  <cp:revision>2</cp:revision>
  <dc:subject/>
  <dc:title>First Wave</dc:title>
</cp:coreProperties>
</file>